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1B7-D3B6-49D6-BE62-CF4086F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385-699D-46BA-AFD3-83F3EA1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700-23EB-4F0E-9D9D-AF61BB5B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4E9-2E6C-47BA-A6B5-D82DC22F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FFC-9CB2-4145-A464-5AFC781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F4D-4FE2-40C5-A663-7F599AB0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0CF-9F48-457E-9C8A-AB711231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416-B36F-4E84-9C4B-A03E28FE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D5C-804A-4B56-A989-8475989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976-96C4-4DF4-9BD7-44AAFBC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BD3-C97C-4861-89E4-17D1028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1B5-99D5-4BB8-8EF2-21FFF93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4D8-2C7A-4861-8A54-2A23ED84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oper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1700280"/>
            <a:ext cx="28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773360"/>
            <a:ext cx="36720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m, 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torua, 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ara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ohn Paul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3213000"/>
            <a:ext cx="57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name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of people and p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4941720"/>
            <a:ext cx="59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Feels important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better give it a capit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38:12Z</dcterms:modified>
  <cp:revision>12</cp:revision>
  <dc:subject/>
  <dc:title>Simile</dc:title>
</cp:coreProperties>
</file>